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1E4-FBA6-4EB3-A988-E1279DCB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BC9-35D1-488C-A3C6-09CDA84F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A7A-7320-4AB3-A661-41F6FF7E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C1F-5E82-4388-9D0F-1DA6B6AD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E47-5FA9-4B0C-8B23-2DF2E4F9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C09-E3DA-4BF3-A4A6-D994FAF9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CC9-0DE4-4456-A88C-55E230AB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F85-40FE-49C7-8D00-C2C3D93E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142-435D-4078-9997-309CBE0C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AE9-3665-4240-9214-44A87BA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6A6-DE7C-4935-9AB4-753DD733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92C-96F9-4C45-BD9C-7CD9E3D7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5F11-2DED-4214-AFEB-41F2DBBDB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2 Radostná pies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avým tó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ť pieseň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ožeň tieň, bolesť a žia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uď Bohu sláva za lásky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s tak mil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ý, kto chce, so mn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ť si smi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nádej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šnikov j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pozemským pútnikom skláňa sa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to ho radostne nasled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avým tó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ť pieseň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ožeň tieň, bolesť a žia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uď Bohu sláva za lásky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s tak milov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á pieseň vždy svetom nech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m Otcom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voriteľ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zvesti tej nádejn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techy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Syn Boží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avým tó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ť pieseň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ožeň tieň, bolesť a žia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uď Bohu sláva za lásky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s tak mil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ísme nám zjavil Bo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ti pl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zem že zostúp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k n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eských zástupo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cty sa vz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aránkom Božím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k nám s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avým tó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ť pieseň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ožeň tieň, bolesť a žia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uď Bohu sláva za lásky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s tak mil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ovcu zblúdil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sveta tmá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iel ma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ám už str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svojom ovčinci privíta rá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ch, čo s láskou 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chcú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07:49:21Z</dcterms:modified>
  <cp:revision>20</cp:revision>
  <dc:subject/>
  <dc:title>Je veľký náš Pán, on slávy je Kráľ Nech do všetkých strán  spev vrúcnych znie chvál.</dc:title>
</cp:coreProperties>
</file>